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A0B-7AAE-412D-A4B7-332FD581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DA1-C306-4916-9AD8-197EE502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521-0B00-4308-9248-83F6B281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F2C3-C4B9-425D-A722-DB0CCDA0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B99-4FED-417B-B2EF-E9C02552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752-3B88-4164-9817-99430BE0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333-639F-47DB-B40C-CEA7280E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6C9-D2F8-4DB1-9DEF-55225CDD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BFF-90F1-458D-84EE-A2FA5756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416-D923-4114-A5D2-A663E51C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83E-13A5-4542-BA31-50ABE513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F7B-382F-4CD4-BD82-B53F9B01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4373-643C-4232-A7E1-FEA9E4D0C2D0}" type="datetime">
              <a:rPr b="0" lang="en-US" sz="14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49DD-D01E-49A7-987A-BF48018BE7C3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APTER 14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tion 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Atomic Numb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Atomic Ma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Isotop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11280" y="685800"/>
            <a:ext cx="3798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oactive Dec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33520" y="162252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atomic nuclei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en they have about the same number of protons and neutr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33520" y="345132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nuclei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nst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cause they hav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o man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o 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utr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58640" y="685800"/>
            <a:ext cx="3798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oactive Dec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33520" y="144792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true for heavier elements such a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uran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luton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2666880"/>
            <a:ext cx="723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se nuclei, repulsion builds up.  The nucleus must release a particle to become stab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33520" y="436248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lease of nuclear particles and energy is calle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adioactive dec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8640" y="609480"/>
            <a:ext cx="3798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oactive Dec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33520" y="139068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particles that are ejected from a nucleus include protons,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om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nucleus chang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33520" y="299088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33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en this happens, one element changes into another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33520" y="41562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hanging of one element into another through radioactive decay is calle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ransmut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610200" y="609480"/>
            <a:ext cx="3598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nged Ident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144792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eric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xpels an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lpha particl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2 protons &amp; 2 neutrons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no longer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eric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0" descr="im56"/>
          <p:cNvPicPr/>
          <p:nvPr/>
        </p:nvPicPr>
        <p:blipFill>
          <a:blip r:embed="rId1"/>
          <a:stretch/>
        </p:blipFill>
        <p:spPr>
          <a:xfrm>
            <a:off x="990720" y="3200400"/>
            <a:ext cx="71625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10200" y="609480"/>
            <a:ext cx="3598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nged Ident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146988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transmutation, it becomes the element that has 93 protons,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eptun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7" descr="im56"/>
          <p:cNvPicPr/>
          <p:nvPr/>
        </p:nvPicPr>
        <p:blipFill>
          <a:blip r:embed="rId1"/>
          <a:stretch/>
        </p:blipFill>
        <p:spPr>
          <a:xfrm>
            <a:off x="990720" y="2819520"/>
            <a:ext cx="71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10200" y="609480"/>
            <a:ext cx="3598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nged Ident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12952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ce that the mass and atomic numbers of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ptun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he alpha particle add up to the mass and atomic number of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meric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0" descr="im56"/>
          <p:cNvPicPr/>
          <p:nvPr/>
        </p:nvPicPr>
        <p:blipFill>
          <a:blip r:embed="rId1"/>
          <a:stretch/>
        </p:blipFill>
        <p:spPr>
          <a:xfrm>
            <a:off x="990720" y="2819520"/>
            <a:ext cx="71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86880" y="685800"/>
            <a:ext cx="289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te of Dec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1600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te of decay of a nucleus is measured by it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ALF-LIF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85800" y="26766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lf-lif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radioactive isotope is the amount of time it takes for half of a sample of the element to dec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87960" y="609480"/>
            <a:ext cx="5664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lculating Half-Life Dec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33520" y="1357200"/>
            <a:ext cx="7772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-131 has a half-life of eight day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1" descr="im62"/>
          <p:cNvPicPr/>
          <p:nvPr/>
        </p:nvPicPr>
        <p:blipFill>
          <a:blip r:embed="rId1"/>
          <a:stretch/>
        </p:blipFill>
        <p:spPr>
          <a:xfrm>
            <a:off x="3429000" y="1978200"/>
            <a:ext cx="5148360" cy="2925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533520" y="2057400"/>
            <a:ext cx="27432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start with a sample of 4 g of iodine-131, after eight days you wou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879480" y="5092560"/>
            <a:ext cx="65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only 2 g of iodine-131 remai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83040" y="685800"/>
            <a:ext cx="5664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lculating Half-Life Dec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33520" y="160344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dioactive decay of unstable atoms goes on at a steady pace, unaffected by conditions such as weather, pressure, magnetic or electric fields, and even chemical reac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4240" y="533520"/>
            <a:ext cx="4258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dentifying Numb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33520" y="1295280"/>
            <a:ext cx="761976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of different elements contain different numbers of prot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atomic numb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n element is the number of pr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520" y="2378160"/>
            <a:ext cx="76197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omic numb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n element is the number of pr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s of an element are identified by the number of protons because this number never changes without changing the identify of the el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58280" y="609480"/>
            <a:ext cx="3115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rbon Da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3520" y="140004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-14 is used to determine the age of dead animals, plants, and hum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33520" y="2546280"/>
            <a:ext cx="7543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living organism, the amount of carbon-14 remains in constant balance with the levels of the isotope in the atmosphere or ocea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3520" y="456552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balance occurs because living organisms take in and release carb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34240" y="533520"/>
            <a:ext cx="3115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rbon Da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33520" y="1219320"/>
            <a:ext cx="48006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chaeologists find an ancient item, they can find out how much carbon-14 it has and compare it with the amount of carbon-14 the animal would have had when it was aliv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3520" y="484812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ing the half-life of carbon-14, they can then calculate when the animal liv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10" descr="im65"/>
          <p:cNvPicPr/>
          <p:nvPr/>
        </p:nvPicPr>
        <p:blipFill>
          <a:blip r:embed="rId1"/>
          <a:stretch/>
        </p:blipFill>
        <p:spPr>
          <a:xfrm>
            <a:off x="5410080" y="762120"/>
            <a:ext cx="339120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34240" y="533520"/>
            <a:ext cx="3115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rbon Da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2952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geologists want to determine the age of rocks, they cannot use carbon dat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3520" y="230508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ead, geologists examine the decay of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uran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3520" y="3317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33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Uranium-23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cays to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lead-20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a half-life of 4.5 billion yea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535320" y="609480"/>
            <a:ext cx="556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ynthetic El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3520" y="164160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sts now create new elements by smashing atomic particles into a target element, thereby increasing the atomic numb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09480" y="3429000"/>
            <a:ext cx="79250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ew element is called a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YNTHET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cause it is made by hum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s with atomic numbers 93 and higher have been made in this w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10200" y="76212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533520" y="1622520"/>
            <a:ext cx="761976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articular type of atom can have a varying number of neutrons in its nucle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toms of carbon have six neutrons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have seven neutrons and some have e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594240" y="0"/>
            <a:ext cx="1888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57920" y="60948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33520" y="159372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atoms are carbon atoms because they all have six prot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13" descr="im46"/>
          <p:cNvPicPr/>
          <p:nvPr/>
        </p:nvPicPr>
        <p:blipFill>
          <a:blip r:embed="rId1"/>
          <a:stretch/>
        </p:blipFill>
        <p:spPr>
          <a:xfrm>
            <a:off x="1066680" y="3119400"/>
            <a:ext cx="70106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4240" y="60948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33520" y="1160640"/>
            <a:ext cx="7848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three kinds of carbon atoms are called isotopes.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sotop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atoms of the same element that have different numbers of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10" descr="im46"/>
          <p:cNvPicPr/>
          <p:nvPr/>
        </p:nvPicPr>
        <p:blipFill>
          <a:blip r:embed="rId1"/>
          <a:stretch/>
        </p:blipFill>
        <p:spPr>
          <a:xfrm>
            <a:off x="1066680" y="3119400"/>
            <a:ext cx="70106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4600" y="609480"/>
            <a:ext cx="2937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39392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om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ss numb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n isotope is the number of neutrons plus prot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11" descr="im48"/>
          <p:cNvPicPr/>
          <p:nvPr/>
        </p:nvPicPr>
        <p:blipFill>
          <a:blip r:embed="rId1"/>
          <a:stretch/>
        </p:blipFill>
        <p:spPr>
          <a:xfrm>
            <a:off x="1603440" y="2651040"/>
            <a:ext cx="59371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763200" y="609480"/>
            <a:ext cx="2937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3520" y="11844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find the number of neutrons in an isotope by subtracting the atomic number from the mass numb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Picture 8" descr="im48"/>
          <p:cNvPicPr/>
          <p:nvPr/>
        </p:nvPicPr>
        <p:blipFill>
          <a:blip r:embed="rId1"/>
          <a:stretch/>
        </p:blipFill>
        <p:spPr>
          <a:xfrm>
            <a:off x="1603440" y="2651040"/>
            <a:ext cx="59371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611640" y="609480"/>
            <a:ext cx="439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rong Nuclear For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33520" y="1600200"/>
            <a:ext cx="716256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protons are positively charged, they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y tend to rep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ach other just as the north ends of two magnets tend to push each other apar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when they are packed together in the nucleus with the neutrons, an even stronger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inding for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akes o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35680" y="685800"/>
            <a:ext cx="439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rong Nuclear For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33520" y="1488960"/>
            <a:ext cx="7772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47640" y="1600200"/>
            <a:ext cx="803916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force is called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ong nuclear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ong nuclear for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n hold the protons together only when they are as closely packed as they are in the nucleus of the ato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81040" y="37296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21:31:13Z</dcterms:created>
  <dc:creator>Cherie Hatton</dc:creator>
  <dc:description/>
  <dc:language>en-US</dc:language>
  <cp:lastModifiedBy>St. Aloysius</cp:lastModifiedBy>
  <dcterms:modified xsi:type="dcterms:W3CDTF">2012-10-17T15:12:42Z</dcterms:modified>
  <cp:revision>403</cp:revision>
  <dc:subject/>
  <dc:title>Slide 1</dc:title>
</cp:coreProperties>
</file>